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4D41-1492-427A-B86B-CECD3E82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C7EF-F97E-465A-A4F0-9BAB7FE5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F10-66E0-4165-8798-88E1F2C2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3311-A19E-4449-ABBD-9536C7DE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66FF-DD29-4D8B-9A85-86B846A7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E3E9-3C0C-4744-96B3-574E3DF3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03D-0D6B-43EE-A5B9-E7885A17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2BBA-1E24-48D0-925C-6E4E1EF6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FA1E-1624-489C-8790-DBC6BE71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241-01AF-4206-938C-9F82C32D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7CEE-3135-45B7-88A3-66D97013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F32-33F7-4246-9516-398807DF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213F-3C6F-4911-A8AC-F60F0ED91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5943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Elephant"/>
              </a:rPr>
              <a:t>Needs Assessment</a:t>
            </a: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Elephant"/>
              </a:rPr>
              <a:t>Problem-Finding, Problem Solvi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19360" y="4266720"/>
            <a:ext cx="4190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Trisha 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Jen Cha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Jill Sum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April 15th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359080" cy="2359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3276720"/>
            <a:ext cx="2389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earning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What are the characteristics of the school system in which the new instruction will take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Private training sessions (in home or other designated environmen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PetSmart, Petco, pet stores, law enforcement or therapy training fac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0" y="45720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4495680"/>
            <a:ext cx="2259000" cy="2362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earning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What is the philosophy and what are the taboos of the larger community in which the organization exi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663300"/>
                </a:solidFill>
                <a:latin typeface="Elephant"/>
              </a:rPr>
              <a:t>Positive reinforcement vs. “old school” methods with choke chains, shock collar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663300"/>
                </a:solidFill>
                <a:latin typeface="Elephant"/>
              </a:rPr>
              <a:t>Also, how society as a whole views dogs and the importance of dog training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Who are the learn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D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3114720" cy="3124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133720" y="3581280"/>
            <a:ext cx="1915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Problem Finding, Problem Solvi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The reason why we chose this model is because the issue of untrained dogs is an ongoing issue in socie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When dog owners are not pleased with their dog’s behaviors it leads to a breakdown in the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0" y="4114800"/>
            <a:ext cx="1706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Problem Ident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Untrained d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Elephant"/>
              </a:rPr>
              <a:t>“</a:t>
            </a:r>
            <a:r>
              <a:rPr b="0" lang="en-US" sz="2200" spc="-1" strike="noStrike">
                <a:solidFill>
                  <a:srgbClr val="663300"/>
                </a:solidFill>
                <a:latin typeface="Arial"/>
              </a:rPr>
              <a:t>Without proper training, many dogs are likely to misbehave. And when owners allow their dogs to misbehave, everyone suffers: The owner, because he or she lives with a dog, the dog, because everyone's down on him for misbehaving; the dog's owner's neighbors, because living next to a difficult dog is no one's idea of fun; and ultimately every dog owner, because each incidence where a dog creates a nuisance increases anti-dog sentiment, and contributes to the likelihood that tough legal restrictions will be placed on all dogs.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Arial"/>
              </a:rPr>
              <a:t>~Robin Korvary 1999 American Dog Trainers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nstructional or Training Needs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Good training needs a kind heart 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l as a cool and well-informed head...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 Konrad Mo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Positive reinforcement training methods are the most effective and human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Elephant"/>
              </a:rPr>
              <a:t>Link to the humane society about positive reinforcement tips and techniq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Elephant"/>
              </a:rPr>
              <a:t>http://www.hsus.org/pets/pet_care/our_pets_for_life_program/dog_behavior_tip_sheets/positive_reinforcement_training_your_dog_with_treats_and_prais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Non Instructional Interven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The outlook of the owner towards the p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Owner’s 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Compa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How the pet’s status is viewed in the family.</a:t>
            </a: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For example is the dog strictly used for a working purpose or is it treated like a family member that is loved and nurt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Elephant"/>
              </a:rPr>
              <a:t>Also the level of commitment the owner’s are willing to make in the necessary trai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earning Environ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What are the characteristics of teachers/trainers who will be u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Dog trainers- home/companion, therapy, law enforcement, working do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05720" y="4114800"/>
            <a:ext cx="1955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earning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Are there existing curricula into which their piece of instruction must f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Yes, to all but comp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248520" y="3581280"/>
            <a:ext cx="21333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earning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What hardware is commonly available in the potential learning environ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Training log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Training book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Treats/ “high value” re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400800" y="2971800"/>
            <a:ext cx="2490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earning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lephant"/>
              </a:rPr>
              <a:t>What are the characteristics of the classes and facilities that will use the new instr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Private h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P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Fields/other outdoor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Training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Elephant"/>
              </a:rPr>
              <a:t>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248520" y="2819520"/>
            <a:ext cx="2547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9:35:54Z</dcterms:created>
  <dc:creator>jsummers</dc:creator>
  <dc:description/>
  <dc:language>en-US</dc:language>
  <cp:lastModifiedBy>jsummers</cp:lastModifiedBy>
  <dcterms:modified xsi:type="dcterms:W3CDTF">2008-04-17T22:34:22Z</dcterms:modified>
  <cp:revision>4</cp:revision>
  <dc:subject/>
  <dc:title>Needs Assessment   Problem-Finding, Problem Solving Model</dc:title>
</cp:coreProperties>
</file>