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577-0DA4-4414-A2FE-05E3EE52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08C-828F-4637-AA41-A55F134A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159-AD15-4F4B-A63C-C0CC09C1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9D3-D587-4F50-BD3A-88D75BB6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543-CBE0-435E-8086-0F68D39C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9A6-D7A8-440F-87FB-E466B129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B9D-63F8-485F-9C88-B2A6E26D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3E5-DC00-4C8D-BCDD-62F0A71C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0F4-189D-4639-98E1-B2355178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7EC-4F3B-432A-BC09-B2EE4955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410-CB0F-4409-9312-31019D13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390-FA59-4DC0-B10D-5C8CBE47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C4FD-1432-4FBF-847F-30E418683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Elephant"/>
              </a:rPr>
              <a:t>Needs Assessment</a:t>
            </a: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Elephant"/>
              </a:rPr>
              <a:t>Problem-Finding, Problem Solv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4266720"/>
            <a:ext cx="4190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Trisha 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Jen Cha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Jill Su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April 15th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359080" cy="235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2389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are the characteristics of the school system in which the new instruction will take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rivate training sessions (in home or other designated environmen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etSmart, Petco, pet stores, law enforcement or therapy training fac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495680"/>
            <a:ext cx="225900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is the philosophy and what are the taboos of the larger community in which the organization ex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3300"/>
                </a:solidFill>
                <a:latin typeface="Elephant"/>
              </a:rPr>
              <a:t>Positive reinforcement vs. “old school” methods with choke chains, shock collar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3300"/>
                </a:solidFill>
                <a:latin typeface="Elephant"/>
              </a:rPr>
              <a:t>Also, how society as a whole views dogs and the importance of dog training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Who are the lear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114720" cy="3124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33720" y="3581280"/>
            <a:ext cx="1915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Problem Finding, Problem Solv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The reason why we chose this model is because the issue of untrained dogs is an ongoing issue in socie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When dog owners are not pleased with their dog’s behaviors it leads to a breakdown in the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706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Problem 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Untrained d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lephant"/>
              </a:rPr>
              <a:t>“</a:t>
            </a: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Without proper training, many dogs are likely to misbehave. And when owners allow their dogs to misbehave, everyone suffers: The owner, because he or she lives with a dog, the dog, because everyone's down on him for misbehaving; the dog's owner's neighbors, because living next to a difficult dog is no one's idea of fun; and ultimately every dog owner, because each incidence where a dog creates a nuisance increases anti-dog sentiment, and contributes to the likelihood that tough legal restrictions will be placed on all dogs.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~Robin Korvary 1999 American Dog Trainers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tructional or Training Need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Good training needs a kind heart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 as a cool and well-informed head...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Konrad Mo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Positive reinforcement training methods are the most effective and human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Elephant"/>
              </a:rPr>
              <a:t>Link to the humane society about positive reinforcement tips and techniq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Elephant"/>
              </a:rPr>
              <a:t>http://www.hsus.org/pets/pet_care/our_pets_for_life_program/dog_behavior_tip_sheets/positive_reinforcement_training_your_dog_with_treats_and_prai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Non Instructional Inter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The outlook of the owner towards the p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Owner’s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Compa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How the pet’s status is viewed in the family.</a:t>
            </a: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For example is the dog strictly used for a working purpose or is it treated like a family member that is loved and nurt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Also the level of commitment the owner’s are willing to make in the necessary trai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are the characteristics of teachers/trainers who will be u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Dog trainers- home/companion, therapy, law enforcement, working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95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Are there existing curricula into which their piece of instruction must 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Yes, to all but comp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21333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hardware is commonly available in the potential learning environ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aining log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aining boo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eats/ “high value”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2490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are the characteristics of the classes and facilities that will use the new i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rivate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Fields/other outdoo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aining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547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9:35:54Z</dcterms:created>
  <dc:creator>jsummers</dc:creator>
  <dc:description/>
  <dc:language>en-US</dc:language>
  <cp:lastModifiedBy>jsummers</cp:lastModifiedBy>
  <dcterms:modified xsi:type="dcterms:W3CDTF">2008-04-17T22:34:22Z</dcterms:modified>
  <cp:revision>4</cp:revision>
  <dc:subject/>
  <dc:title>Needs Assessment   Problem-Finding, Problem Solving Model</dc:title>
</cp:coreProperties>
</file>